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B9B-8047-447F-BA80-C5CF96A1A2F4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B04-2DE8-4F26-BD2B-F3FC69148F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A61-6437-403C-B4FD-7E81812EEA91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6F2-EB49-4F78-91BE-F0180A35BB4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6147-A3F0-4F53-907F-9D6FF7797C2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8CA-8357-4926-A90F-45690D29560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C8E1-A985-4352-AD62-E19AAAD222A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9B6B-7C1D-4E33-90FB-A928AFF24A8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9B7-F306-4BC5-928A-F239CC4A7732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8D6-2834-440E-BDFA-4EE73EB302A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105D-BCA0-4AE0-83DE-27505638C0C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CDE5-D1D6-4942-A209-2AEB93F30D6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48B-8BD7-4A65-8833-CF6D711A6C9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ACA-4348-4744-B1A5-3E6045A441E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BD26-258D-48B7-B749-D14623E3B85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F6F-315F-4F99-8B44-9BC5F23F590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0110-A94C-420F-BFF4-EE69150DCB9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8D03-7F7E-42CF-A5AD-8948FBD0F2D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8F52-BD2A-4148-87F9-4BE28EFF197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63C7-97CB-4F99-85C7-2AF57D23321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8AB7-49BE-4C67-A03A-90A509589A3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4E6B-3254-43DC-8A3B-CB483EB8AC3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472-6AE8-4FEA-83A5-F64816679C0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969A-C453-4D6B-B91C-62D05DDBBE6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E8AE-53E6-4707-8EDD-6E363AB9E682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A98-C173-4321-98C0-F915E60B411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1F3-D8CA-4540-B4BA-4EDC1228E7C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D2F-C6C1-45D3-823E-4475D70EE87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9DAF-FE97-4E00-B741-524E3955353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92D9-DD82-42E7-B792-0BBC758800D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1EB-7CB4-472E-B39B-28442358D88E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E434-A473-4F15-8F48-86B1B8335BE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903-0E0F-4F49-B561-3F971C81220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57D7-DC39-4B38-9A4E-64C4B8BA62F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C5B3-1D61-43C9-8C04-0B65F49CB1CC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0048-4846-49A6-A02A-F60E7CF7E74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7BE0-69CA-435A-AA1A-CB7E1DE5873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10A-B86B-47AC-86A6-F779C8D49F2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261-B511-4FB6-8DDB-2180AE16A05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570-249E-4F2C-B068-95F4DFC364F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F92-5724-4807-B684-88557EFFE73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872-B083-4B9D-A470-D8D3593C1A0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902-1942-48B6-85DF-E24D47800EE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C55-6F2D-4003-869C-0A9E65EDDB7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0D4-E9FA-420B-9E66-BA8998F6E2D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722-BD65-4149-B1EC-750F55232D9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2715-D7D2-45ED-BD8E-D5E928F2976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66D-672E-43E2-94BC-C320576D4FB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70A1-07E7-48C1-A3D0-E70A00E89B9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F94-CCB5-4947-BBF7-9910AE133A3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C8C0-4235-4683-A903-7802E6546F8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3C2-1FB3-462D-A388-3AFF948C579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7D1-81B3-4B3E-9644-7F6303F8DF9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B8BB-1B1E-4F4E-9EE3-19AF57C05EA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ADF-51A8-45EA-A12C-32A445C0FA3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CB19-7F1F-4E99-A1E4-2E899F686B0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9158-165E-4468-947D-CC69410CC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BE3E-2E6A-42C0-8CD6-01AF80199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516C-3C1A-4D0C-BC50-BB5B85EC8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A643-25E2-4D1D-A217-670CE0A2D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B0CE-9A02-45AC-95C1-80B0DA61D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6D26-3DBF-4D5A-B4A5-70C156892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0AFB-B90C-4D6A-BFCF-9301B6AD2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12F8-8AEB-4FFF-9FFA-F7F6FE2F3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39AC-A22D-4340-8042-6E432487B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DA94A-44FC-483E-97DE-4F56C1002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0572-7B4A-4214-962E-322DFA236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9405-5BFD-401F-9F94-7BE8EA1E8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5132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C53-2C55-419E-AFD1-645055494DA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5872-E562-405C-A719-98B76475BA8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Context of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oder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zati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Diversity, Quality,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International)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97160" y="4064040"/>
            <a:ext cx="634968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Joseph E. Champoux,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al Behavior: Integrating Individuals, Groups, and Organiz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, 5e. New York: Routledge, 201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017-8534-4423-94DD-DF64F1870EC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diversity: react to the presence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 diversity: aggressively embra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for diversity: aggressively recruit and hire people of diverse 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F77-A3C4-4C92-A843-0AF212128B8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all parts of an organization to ensure quality products or ser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trace its roots to the 192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gnored by American managers until forced to focus on it by competitive fo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names such as total quality management, Six Sigma quality, ISO 900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 (QM) covers them 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996-AF19-4B94-B212-A3A8A993F41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ilosop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etting it right the first tim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 of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ols and techniques help manage for quality and 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as roots in manufacturing but applies to all organiz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5A9-15BC-400E-8944-0EBAE69AF38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uilt upon concepts dating to at least the 1920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American contributors such as W. Edwards Deming, Joseph M. Jur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Japanese contributors: Kaoru Ishikawa, Genichi Taguch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rldwide phenomenon n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 awards in different countries and world reg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national Organization for Standardization (ISO): international quality standards—ISO 9000 and beyo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6F0B-1EB6-4ACC-B25F-4D7101A2649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a total system’s view of the organization. Reaches beyond its boundari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dependence of outside people, outside organizations, and groups within the organization to manage fo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s, 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F12-E2A2-46C3-B6C9-89E301327DC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ew organizations as a system of processes, not vertical chain-of-comm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hasiz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 interdepen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e of feedback in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customers and suppliers: discover shifts in expectations and quality requirem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45C6-14C5-4499-970C-97952321D67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s and techniques of Q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t people watch work processes to ensure a quality product or serv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n employees in the use of the too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QM tools and techniques let organizations analyze their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ically done by teams of people drawn from all parts of the organization affected by th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8D3-924B-4E5F-A68F-EB5C2393BCE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M differs from other ways of manag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long-term commitment to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lity is everyone’s job, not the job of a quality-control depar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nsely customer focused: demands that all organization members share that foc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high involvement in the work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08A-CF21-4AA7-A3EB-8C04F32C138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toward QM presents massive change to an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people to reframe the way they think about their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transformations might account for some QM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68A9-6F82-4A2A-A43E-2E48C80C4E3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uting power and computer feat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munications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her technolo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ials technology and enginee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105-AE00-44BA-8F8D-DAA238FB976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workforce divers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several diversity dimens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workforce diversity effects on organizations and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the direction in which many organizations are headed in managing for qual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quality management and its histor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the likely effects of quality management on an organiza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B19-606A-44E3-9088-4241C3244E8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erial role cha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ople in scattered pla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works will act as coordinating mechanisms, replacing face-to-face inte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elecommu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0E97-3532-4998-B727-5B71D131FBA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w strate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: thoroughly understand customer needs and variations among marke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vades the design and response of manufacturing and service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ludes a thorough understanding of customer needs and market vari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ter is especially true for multination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23BE-01DC-4161-8151-2DE051F3BCF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strategies require decentralized organiz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st responses to meet shifting market and customer nee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functional teams to tightly integrate  business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BD60-DE29-4FE0-9594-BC8DB098558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f-managing tea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olved in all parts of the business process affecting a cust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ll do much of the selection and socialization of new 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rtual organizations: link to various partners over the Interne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B44-809F-4720-B40E-DD07CDC5711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et comme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ecast: Multibillions of dollars in future s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ggest growth areas: computers, software, books, music, vide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: Amazon.com offers millions of book titles, outstripping Barnes &amp; No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 to set up commercial Web si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ers predict a flood of upstarts: new generation of competi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4EFE-BDAF-4777-A258-C72C0992D80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ly interconnected world requires managers to have a global perspec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odern managers must think of entire world as source of labor, materials, and marke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ly interconnected economies around the worl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chnology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trade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s for manag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BC3-01CB-4C6A-B9CF-0FFDD9903EB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ntry culture dimensions that imply acceptable management behavior and organizational fo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distance: degree of inequality among people a culture considers nor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certainty avoidance: value placed on predictability, structure, st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ism: value placed on acting alone and not as part of a gro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culinity: value placed on decisiveness, assertiveness, and individual achie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ng-term orientation: value placed on persistence, status, thrif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AE3F-836B-41AC-8574-7399B66EF60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for management and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untries in each quadrant (textbook Figure 2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: Austria, Germany, Isra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: Mexico, Panama, Guatem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BDCD-0607-4E04-8608-1F90170AC53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I: Denmark, Sweden, Republic of Irel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V: China, Malaysia, Singa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ddle of each dimension countries: United States, Canada, The Netherla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line how technological changes will affect modern organizations and their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st the effects of specific technologies on modern organizat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some issues and implications of managing organizations in an increasingly global environ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y some dimensions of country cultures that distinguish one culture from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003E-C125-4D26-A14E-695627BA214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838E-5DED-44FE-BAC0-E8B3FB75979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Organizations, and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lobal Environment of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BDC9-76DC-47FA-93A1-4D918EF3E97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roduction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95680" y="2104920"/>
            <a:ext cx="1917720" cy="184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25800" y="3103560"/>
            <a:ext cx="191772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334040" y="3090960"/>
            <a:ext cx="191736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32280" y="238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15880" y="381312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ch-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137920" y="3854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260440" y="1617840"/>
            <a:ext cx="4656240" cy="3921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46760" y="1620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33800" y="49514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50600" y="57150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on Among the Contex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8C5B-D4B6-4A69-958B-A4EAA87BD78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ces in workforce composition based on personal and background factors of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dimensions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cal a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mily stat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315440" y="5562720"/>
            <a:ext cx="6558840" cy="459720"/>
          </a:xfrm>
          <a:prstGeom prst="rect">
            <a:avLst/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e textbook Figure 2.1 for a more complete list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CF49-B489-4F30-A4CC-308822F95FA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jections show more women, more minorities, and older workers in the work fo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ct strong regional dif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in people also present different worldviews to an organ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see the world through different perceptual len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: harnessing these differences as opportunities to pursue the organization’s mis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815-6AF2-469A-8F27-DA3D524C493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llenges to human resource management and work poli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parents: work schedules and on-site day c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le parent: time off to tend to sick chi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ve Americans: work schedules and their culture’s celebration perio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abled: special access to building and work area 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-time: job shar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4A5-E765-40DD-AC2A-39E6CDADFA9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3651120" y="2654280"/>
            <a:ext cx="1841760" cy="1917720"/>
          </a:xfrm>
          <a:prstGeom prst="ellipse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8480" y="3200400"/>
            <a:ext cx="141876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33080" y="3146400"/>
            <a:ext cx="91008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38160" y="5562720"/>
            <a:ext cx="185184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 f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514240" y="34290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86400" y="3429000"/>
            <a:ext cx="1203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461952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830040" y="3219480"/>
            <a:ext cx="1504440" cy="820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for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01720" y="18572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ree views of managing workforce 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seph E. Champoux, Ph.D.</dc:creator>
  <dc:description/>
  <dc:language>en-US</dc:language>
  <cp:lastModifiedBy>Joseph E Champoux, PhD</cp:lastModifiedBy>
  <cp:lastPrinted>2002-02-08T18:37:31Z</cp:lastPrinted>
  <dcterms:modified xsi:type="dcterms:W3CDTF">2016-06-10T15:47:11Z</dcterms:modified>
  <cp:revision>247</cp:revision>
  <dc:subject/>
  <dc:title>Chapter 1 Introduction</dc:title>
</cp:coreProperties>
</file>