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9E74-F863-4255-9FF7-1D1BD2A2100A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3EF-1A1D-42F3-9531-BDE8E319A3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AA3A-B151-47E9-A0C4-C78FB702B1F0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46C-9CB2-4CD4-89B4-30FF53B65F8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88620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87044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1584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77DB-7FB8-42CC-B8A3-D81E8067EC0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836-A8A2-472C-81CF-D4EFAD9A699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900-A60C-4527-9298-CEF9E77236DC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83E-2BC1-4F52-A048-34C614F6DDD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2C0-D5DA-4393-97F4-50D3177AEB3C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323-0AD8-4831-9DE6-C792FC90313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BE5E-9646-4418-8A41-11CC6F228285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363B-E379-4E30-AD4A-ED126FC6D0D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296-7F80-4A7A-8885-6EB49D90BC85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68E9-00FE-4B88-8F3D-9DF041E671B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1506-77F5-43CE-BC48-9DB97D6C3923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FAC-4595-4DF1-9520-020D8BEC7D8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7F1-6214-4E71-9FB9-910EDC55F85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58A4-143E-47EE-B3FE-7F00F4A3012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E355-3FBC-4356-9DC0-324902187447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0D5A-1DE9-4890-95B5-7BDF09B6D88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B9A-E2CD-49CB-9001-287C7B178168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BEF5-ECB1-442E-A700-116A5917AAF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909-CA90-461C-9792-0C64A5428330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ECB6-57AF-4319-A269-8B6B1AD4287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76C1-C330-4B97-AD03-D1B94FF59BC4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9C13-75C7-4364-B223-FCBE25F8A0C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9F2-38CE-4CCB-A175-B22E79666079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70DF-2324-490F-98A5-1A09C67267D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DF8C-6F03-41C5-9ACC-9E372E9CB84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892-BA64-426F-891E-BE3AF849893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D77B-D151-4914-896E-C90D7AD54C27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982F-77ED-4E92-A109-3AE99E99C7D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021-9316-4FA6-B303-5A5949F1A45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87FF-BFED-43C3-B5DB-B145B01FA6A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0DFF-278B-4ACC-BFEB-B9070B3F73C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0C14-6730-416F-8886-D990ECFD746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DC54-2B68-41DF-9FB6-779D67155815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D1D2-ADB5-498D-B582-C17EADED4D7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3646-1CE1-49A1-B4BE-8F8B81EC9128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6294-EE98-4221-8ED1-1C812F84648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7C78-F303-4575-AB79-56D952285DBD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36C5-773F-4DA7-9921-F2D17B38A28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2CD4-578A-4817-9CFC-F377455CEF2A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C719-B837-497E-9812-7F67C9D6F85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4187-616D-4F6C-A802-AD5310846C5E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0D34-0944-41DF-AF87-0CD1E46A3BF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75B4-62BC-4DC8-9FDF-24B391559C26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F3CA-1B8C-4C54-94BB-8357B774E0E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539-DE7D-4371-9817-889767B06F42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816-080E-4475-A0EB-3EF4BF0071B3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86D0-1FA6-4256-B628-E51E7E0B7F6E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7B0-769E-43D1-B8F1-F16B0D694EA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3BF-6CE3-4638-9B14-A4C2069C7FAB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E3E-6FD3-4D69-9DB6-82EE643ACAA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hapter 2: The Context of Modern Organiza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D96-F467-48F3-AA8D-4C12AB6F739F}" type="datetime3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July 29, 2026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6E6E-963C-46C3-A98A-5527E77C05A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606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916A-F148-4B41-B6DD-29D47B299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C345-7128-44F6-94ED-F24ABCAD9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3529-4F4A-4866-BE20-7EA67D500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1C12-1E90-4768-8BD0-4B2AA001E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AF62-262A-4B61-907B-0A1CDF837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EE88-86E8-4141-AF6F-54EDF31CC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2B05-DC50-4577-8ABA-495FCCAEF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49CF-D680-45F5-8D9D-2872343EB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F393-B06C-44A7-85D8-14986BAED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21A6-63DB-4D6F-9BBC-CF9292AE2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1682-0DE4-47F5-8638-FD9CE14FE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FADC-3594-4A85-B56A-32D6911B3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06 by Thomson Business and Economics, a division of Thomson Learning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5132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8165-CCDD-4BAA-AAB4-89C9E349277F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F6A5-B0D9-4E44-A068-60850EB7BA1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Context of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odern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zati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Diversity, Quality,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International)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97160" y="4064040"/>
            <a:ext cx="6349680" cy="15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Joseph E. Champoux,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tional Behavior: Integrating Individuals, Groups, and Organiz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, 5e. New York: Routledge, 2016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06E3-BBDC-4FF6-9D14-FEE994FE7E4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diversity: react to the presence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alue diversity: aggressively embra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for diversity: aggressively recruit and hire people of diverse backgr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DB67-929C-47D3-AD09-46C8D24B5844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ing all parts of an organization to ensure quality products or ser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n trace its roots to the 192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gnored by American managers until forced to focus on it by competitive for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names such as total quality management, Six Sigma quality, ISO 900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 (QM) covers them a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8FE-F021-4489-B214-259CCC0D0ABC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ilosop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etting it right the first tim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 of manag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ols and techniques help manage for quality and continuous impro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as roots in manufacturing but applies to all organiz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142C-A3FD-4DD7-87F4-47691B684C3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uilt upon concepts dating to at least the 1920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American contributors such as W. Edwards Deming, Joseph M. Jur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Japanese contributors: Kaoru Ishikawa, Genichi Taguch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rldwide phenomenon no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 awards in different countries and world reg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national Organization for Standardization (ISO): international quality standards—ISO 9000 and beyon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C659-3C62-4476-8D4F-56D92283234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a total system’s view of the organization. Reaches beyond its boundari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dependence of outside people, outside organizations, and groups within the organization to manage fo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s, 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9EE-2F7C-4113-8031-F73D7C17A11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ew organizations as a system of processes, not vertical chain-of-comm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hasiz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lier interdepen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le of feedback in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k customers and suppliers: discover shifts in expectations and quality requirem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4F7-85DC-4095-97B6-7D66FE09D93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s and techniques of Q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t people watch work processes to ensure a quality product or serv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n employees in the use of the too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st QM tools and techniques let organizations analyze their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ypically done by teams of people drawn from all parts of the organization affected by th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485A-8F47-4D8C-AF6B-AD427CCDB90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M differs from other ways of manag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long-term commitment to continuous quality improv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lity is everyone’s job, not the job of a quality-control depart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nsely customer focused: demands that all organization members share that foc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hasizes high involvement in the work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67C4-B0F9-4D02-B514-3325750507F9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lity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ving toward QM presents massive change to an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quires people to reframe the way they think about their organ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transformations might account for some QM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5D17-8652-4F45-82B5-FE221671864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uting power and computer feat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munications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ther technolo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ials technology and enginee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1BD-22E4-4625-B964-106CD4E655E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workforce divers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several diversity dimens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workforce diversity effects on organizations and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be the direction in which many organizations are headed in managing for qualit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quality management and its history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lain the likely effects of quality management on an organizatio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EEED-439D-443B-8E64-48A7AEFCCB22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agerial role cha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ople in scattered pla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tworks will act as coordinating mechanisms, replacing face-to-face inter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telecommu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23B5-199E-47EC-85A6-4B9DB397AF9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w strateg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lexibility: thoroughly understand customer needs and variations among marke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vades the design and response of manufacturing and service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ludes a thorough understanding of customer needs and market vari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ter is especially true for multination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107-8EBF-4B91-AE19-6BAFF4CE35BA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strategies require decentralized organiz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st responses to meet shifting market and customer nee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-functional teams to tightly integrate  business proces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EBA4-BF3B-44E5-BB34-14D44C97DEF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onal desig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f-managing tea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volved in all parts of the business process affecting a cust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ll do much of the selection and socialization of new employe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rtual organizations: link to various partners over the Interne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E85E-8911-4D83-90D1-383A0A938935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chnology, Organizations,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d Management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net commer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ecast: Multibillions of dollars in future s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ggest growth areas: computers, software, books, music, video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: Amazon.com offers millions of book titles, outstripping Barnes &amp; No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e to set up commercial Web si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3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bservers predict a flood of upstarts: new generation of competit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1F9-4DCF-4FA1-8401-44C39B58C69D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ly interconnected world requires managers to have a global perspec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odern managers must think of entire world as source of labor, materials, and market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Highly interconnected economies around the worl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chnology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trade eff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s for manag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757B-FD2E-425A-A8EC-3A2BB8D2F7D7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untry culture dimensions that imply acceptable management behavior and organizational for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wer distance: degree of inequality among people a culture considers norm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certainty avoidance: value placed on predictability, structure, stabi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ism: value placed on acting alone and not as part of a grou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culinity: value placed on decisiveness, assertiveness, and individual achiev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ng-term orientation: value placed on persistence, status, thrif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7512-5580-4795-A2C7-70722158A8EE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for management and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untries in each quadrant (textbook Figure 2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: Austria, Germany, Isra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: Mexico, Panama, Guatema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D8C-77D1-4AB9-B042-336E6898B9E6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Global Environment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f Organization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wer distance and uncertainty avoidance implications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II: Denmark, Sweden, Republic of Irel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Quadrant IV: China, Malaysia, Singap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ddle of each dimension countries: United States, Canada, The Netherlan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arning Goals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line how technological changes will affect modern organizations and their manage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st the effects of specific technologies on modern organization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cuss some issues and implications of managing organizations in an increasingly global environmen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y some dimensions of country cultures that distinguish one culture from anot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6D98-691A-49C4-8013-3CA5E12CCEC0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DB07-C25E-436F-AD0F-C4882AEA65A1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pter 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y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hnology, Organizations, and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lobal Environment of Organiz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C57-71C5-4597-A140-A817328EDE1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roduction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95680" y="2104920"/>
            <a:ext cx="1917720" cy="184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025800" y="3103560"/>
            <a:ext cx="191772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4334040" y="3090960"/>
            <a:ext cx="1917360" cy="1841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32280" y="2384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15880" y="381312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ch-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137920" y="3854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Oval 9"/>
          <p:cNvSpPr/>
          <p:nvPr/>
        </p:nvSpPr>
        <p:spPr>
          <a:xfrm>
            <a:off x="2260440" y="1617840"/>
            <a:ext cx="4656240" cy="3921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46760" y="1620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033800" y="49514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550600" y="57150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eraction Among the Contex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4F76-74CC-40CB-9E94-BD73705F6178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ces in workforce composition based on personal and background factors of peo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me dimensions of workforce divers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ysical ab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mily stat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315440" y="5562720"/>
            <a:ext cx="6558840" cy="459720"/>
          </a:xfrm>
          <a:prstGeom prst="rect">
            <a:avLst/>
          </a:prstGeom>
          <a:solidFill>
            <a:srgbClr val="969696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e textbook Figure 2.1 for a more complete list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D9E-3D6C-498A-8CD3-1AD782BFE2A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jections show more women, more minorities, and older workers in the work for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ect strong regional dif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s in people also present different worldviews to an organ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see the world through different perceptual len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sue: harnessing these differences as opportunities to pursue the organization’s mis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47A6-D94D-4431-8C2A-A55114BF886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llenges to human resource management and work poli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parents: work schedules and on-site day c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le parent: time off to tend to sick chil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tive Americans: work schedules and their culture’s celebration perio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abled: special access to building and work area desig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-time: job shar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7951680" y="6248520"/>
            <a:ext cx="5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274-65EF-4ACB-8150-23F53F9887CB}" type="slidenum"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orkforce Diversity (Cont.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3651120" y="2654280"/>
            <a:ext cx="1841760" cy="1917720"/>
          </a:xfrm>
          <a:prstGeom prst="ellipse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8480" y="3200400"/>
            <a:ext cx="141876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733080" y="3146400"/>
            <a:ext cx="91008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alu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38160" y="5562720"/>
            <a:ext cx="1851840" cy="454680"/>
          </a:xfrm>
          <a:prstGeom prst="rect">
            <a:avLst/>
          </a:prstGeom>
          <a:solidFill>
            <a:srgbClr val="96969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naging f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514240" y="34290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486400" y="3429000"/>
            <a:ext cx="1203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4619520"/>
            <a:ext cx="0" cy="914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830040" y="3219480"/>
            <a:ext cx="1504440" cy="820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for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01720" y="18572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hree views of managing workforce diver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685800" y="6248520"/>
            <a:ext cx="703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Copyright ©2016 by Routledge. All rights reserved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oseph E. Champoux, Ph.D.</dc:creator>
  <dc:description/>
  <dc:language>en-US</dc:language>
  <cp:lastModifiedBy>Joseph E Champoux, PhD</cp:lastModifiedBy>
  <cp:lastPrinted>2002-02-08T18:37:31Z</cp:lastPrinted>
  <dcterms:modified xsi:type="dcterms:W3CDTF">2016-06-10T15:47:11Z</dcterms:modified>
  <cp:revision>247</cp:revision>
  <dc:subject/>
  <dc:title>Chapter 1 Introduction</dc:title>
</cp:coreProperties>
</file>