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1D6-3E8B-426A-96F3-219FC6C6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E6A-A3D7-4A57-AE63-AB365CAD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221-D3B0-4AB5-ADAF-660AA00F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02B-67FE-4AA7-AA03-96A0056E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674-F7BB-4B35-ACD0-F003D089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A9E-8B57-4D15-8FB0-9931917F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F2F-7317-4941-AED5-922227C7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478-450C-427E-A70C-7F5BA7E6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399-487D-4F37-9572-FDC9EB2F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E07-90AC-481C-8A44-11ED6D9B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7FF-CFA3-4E38-A778-DD0BA962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C4F-67B6-4CE3-8D82-4C892D95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A384-0522-436C-879E-EFA13B742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lack &amp; Decker Corporation (A): Power tools Divis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BS Case # 9-595-05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15,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Carl Ch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0291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4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ita --  Tools in red, priced at +15% higher than B&amp;D, brand specially devoted to trades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ita is perceived to be superi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4343400"/>
          <a:ext cx="739152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7391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estion #5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key factors affecting the buying behavior of tradesm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5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onomic fact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No down time (product liability), faster repair service, product functionality; “Tools are used to make a liv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-economic fact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Status, badge, membership (in peers group because of tools), clients (better than clients’ tools), self-esteem (different from amateurs’ tool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estion #6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options - (1) harvest the product line, (2)_ Build brand using a sub-branding strategy, (3) Build brand using a new br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ne and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6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-step process:  To harvest or to build? To build in which w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3352680"/>
          <a:ext cx="723888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52680"/>
                    <a:ext cx="72388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6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uild in which w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19320" y="3048120"/>
          <a:ext cx="693396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9339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6 - Key Efforts to Build Brand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Pick an new brand name (Dewadt), Use a different color (brown, yellow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3809880"/>
          <a:ext cx="7086600" cy="19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9880"/>
                    <a:ext cx="7086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6 - Key Efforts to Build Brand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Add premium product features (lower noise and vibration, safety, energy efficiency, torque, etc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Expand service (taking advantage of B&amp;D’s 117 service center in the US versus only 47 for Makita), offering “free loaners tools,” and assure 48-hour repair guaran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6 - Key Efforts to Build Brand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Raise price to be at par with Makita, apply ABC to fine-tune product cost estimation, in order to discover cost reduction opportunities, Initiate target costing strategy to induce innovation in product design and production by a specific percentage (e.g., 5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6 - Key Efforts to Build Brand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Use current distribution channels (Home Depot, Ace Hardware), offering reimbursement for advertising, initiate web-based order processing with local pickup at store to maximize customer convenience without creating channel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estion #1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case abo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6 - Key Efforts to Build Brand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mo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Use well-trained sales forces dressed in work clothes to visit user sites and retail stores, activate web-based product catalogs, users groups, FAQ's, “What’s New” column, new user referral program, news letters, safety training and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mo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Use product concept testing to solicit feedbac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6 - Key Efforts to Build Brand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al Resul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uncertain to reach 20% share in three years, dependent on company commitment (resources, priority, people) as well as on implementation (dedication, project management, control, problem  solving) of requisite acti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making under Uncertainty - Gut feels and risk taking are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one-page report describing the lessons learned from this case, due in one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1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 of Product/Brand -- considering target segment behavior and customer perception, involving the critically important activities of market  research (in  spite of strong B&amp;D brand name and high product qua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estion #2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ome Black &amp; Decker (B&amp;D) cannot make any money with tradesm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B&amp;D in this mess, in spite of having a powerful brand name and high product quail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2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B&amp;D is known for success with products for incompetent amateurs in the home market; brand name tarnishes tradesman image before peers at job 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 qu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Low product price projects a low-quality image (B&amp;D price is lower than both Milwaukee and Maki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2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 col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black and gray) not readily distinguishable from that with tools used in the home markets by incompetent and un-sophisticated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mportant to tradesman making a living with power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estion #3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B&amp;D’s performance so much poorer compared to that in the professional-industrial seg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swer #3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-industrial -- Companies (auto assembly plants, commercial contractors) getting purchasing agents to buy tools for their own employees  -- detailed analyses,  testing and own hands-on experience; brand is not important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&amp;D has achieved 20% of segment share, versus only 9% of the tradesman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estion #4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Makita outselling B&amp;D 8 to 1 in an account, which gives them equal shelf spa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9:22:57Z</dcterms:created>
  <dc:creator>Carl Chang</dc:creator>
  <dc:description/>
  <dc:language>en-US</dc:language>
  <cp:lastModifiedBy> Carl Chang</cp:lastModifiedBy>
  <dcterms:modified xsi:type="dcterms:W3CDTF">2005-03-13T04:16:20Z</dcterms:modified>
  <cp:revision>11</cp:revision>
  <dc:subject/>
  <dc:title>Black &amp; Decker Corporation (A): Power tools Division</dc:title>
</cp:coreProperties>
</file>