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405B-936C-4AF6-AF9F-CA976B6E5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for icebreaker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ttp://commons.wikimedia.org/wiki/File:Icebreaker_in_ross_se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 for chocolate airplane: http://www.flickr.com/photos/stephenliveshere/51761002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2D17-1E86-4F46-B088-DE3FED2CD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01FB-97B9-42A5-AED9-D77496223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533520" y="6400800"/>
            <a:ext cx="838188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Palatino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Palatino"/>
              </a:rPr>
              <a:t>   Object-Oriented Software Engineering: Using UML, Patterns, and Java                                        </a:t>
            </a:r>
            <a:fld id="{33EC318A-0516-4CAE-BC1A-70CEBD03404A}" type="slidenum">
              <a:rPr b="0" lang="en-US" sz="9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 rot="16200000">
            <a:off x="-2289600" y="2955240"/>
            <a:ext cx="6416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ing UML, Patterns, and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 rot="16200000">
            <a:off x="-2656440" y="3197880"/>
            <a:ext cx="64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bject-Orient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ild 8" descr=""/>
          <p:cNvPicPr/>
          <p:nvPr/>
        </p:nvPicPr>
        <p:blipFill>
          <a:blip r:embed="rId1"/>
          <a:stretch/>
        </p:blipFill>
        <p:spPr>
          <a:xfrm>
            <a:off x="1482840" y="914400"/>
            <a:ext cx="7432560" cy="46832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0720" y="990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hocoPlane Projec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343400" y="472392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Icebreaker Exerc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4"/>
          <p:cNvSpPr/>
          <p:nvPr/>
        </p:nvSpPr>
        <p:spPr>
          <a:xfrm rot="16200000">
            <a:off x="-2289600" y="2955240"/>
            <a:ext cx="6416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ing UML, Patterns, and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 rot="16200000">
            <a:off x="-2656440" y="3197880"/>
            <a:ext cx="64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bject-Orient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Bild 9" descr=""/>
          <p:cNvPicPr/>
          <p:nvPr/>
        </p:nvPicPr>
        <p:blipFill>
          <a:blip r:embed="rId2"/>
          <a:stretch/>
        </p:blipFill>
        <p:spPr>
          <a:xfrm>
            <a:off x="7047000" y="990720"/>
            <a:ext cx="1716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blem Statemen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: Construct an Airplane that carries a choco-kiss as far as possible without harming i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890640" cy="914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hocoplane Requirement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ctional Requirement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irplane has to fl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irplane carries a  Cocoa-Ki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functional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eoff is the porch area outside the seminar roo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coa-Kiss is not damaged at take-of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ocoplane Project Organization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teams with 6 participants e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team builds its own solu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our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rything you can find at TUM or the Lidl-Supermarkt (shortly before  Garching) can be used to build the pl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chedule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Duration: 15:00 - 16:4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ment time: 15:00-15:4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ion testing: 15:45- 16: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le Ston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lient Acceptance Test: 16:15-16: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eams perform their flights simultaneous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ation of the winner: 16: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ceptance Criteria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ne must prominently display the name of the subsystem tea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ne must actually demonstrating flying behavior (throwing is not allow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coa-Kiss must be undamaged after la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lient inspects the Cocoa-Kiss after the plane has come to complete standstill and determines its healthines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iz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eam whose plane actually flies, and covers the longest distance wins a pr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stance is measured from the wall of the building to the first contact on the grou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ics used by the client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 of Cocoa-Ki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amaged (0 points), undamaged (30 poin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gth of 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0 m: 0 points, 1-5 m: 30 points, 5-15 m: 40 points, 16-20 m: 50 points, 21 or more m: 60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auty of 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rowing: 0 points, Flying: 30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Crew of Cocoa-Airlines wishes you a good fligh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2120" y="397044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Have fun!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Development Laboratori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0720"/>
            <a:ext cx="7772400" cy="16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11320" indent="-211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am 1:   Seminar 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1320" indent="-211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am 2:  Glas 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1320" indent="-211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am 3:  Aquar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1320" indent="-211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am 4: Terrar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1320" indent="-211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am 5: Aurar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1320" indent="-211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6:34:36Z</dcterms:created>
  <dc:creator>Bernd Bruegge</dc:creator>
  <dc:description/>
  <dc:language>en-US</dc:language>
  <cp:lastModifiedBy>Bernd Bruegge</cp:lastModifiedBy>
  <dcterms:modified xsi:type="dcterms:W3CDTF">2010-04-10T18:14:31Z</dcterms:modified>
  <cp:revision>6</cp:revision>
  <dc:subject/>
  <dc:title>PowerPoint Presentation</dc:title>
</cp:coreProperties>
</file>